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ct" ContentType="image/x-pict"/>
  <Override PartName="/ppt/media/image6.png" ContentType="image/png"/>
  <Override PartName="/ppt/media/image4.png" ContentType="image/png"/>
  <Override PartName="/ppt/media/image5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6943D-04C7-462B-9DE4-263DF73CF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FEB55-FDDF-4EB8-B197-A6B99B1D5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1249A-B543-42E2-93E0-8456021FE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A35BF-5C5C-4CAA-9AC3-5146D3CB0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A64A4-98A4-4521-9E1D-C3FF1AF84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1B573-7EA6-4B56-A505-C14762D75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D3F95-E2EF-4941-9208-81363E3C5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D7C87-B10E-46B7-BFF5-ADD04CC1B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1FBDA-705D-47F6-984A-CC6EC9AA7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E9AEA-E915-44BE-9B1D-9B414C2C0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19D64-26D2-4826-B55C-89D15257C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69666-9FF6-4E7C-9AED-156E2D446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pril 23,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8F6A7-7E62-408B-8481-7DA7727BC7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www.pacode.com/secure/data/022/chapter16/chap16toc.html" TargetMode="External"/><Relationship Id="rId2" Type="http://schemas.openxmlformats.org/officeDocument/2006/relationships/hyperlink" Target="http://odr.pattan.net/dueprocess" TargetMode="External"/><Relationship Id="rId3" Type="http://schemas.openxmlformats.org/officeDocument/2006/relationships/hyperlink" Target="http://listserv.millersville.edu/cgi-bin/wa?SUBED1=gifted-atmu&amp;A=1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pril 23,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3FDAE-28BC-4410-A2F3-F6691415FE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b2922"/>
                </a:solidFill>
                <a:latin typeface="Times New Roman"/>
              </a:rPr>
              <a:t>Due Process:</a:t>
            </a:r>
            <a:br>
              <a:rPr sz="4400"/>
            </a:br>
            <a:r>
              <a:rPr b="1" lang="en-US" sz="4000" spc="-1" strike="noStrike">
                <a:solidFill>
                  <a:srgbClr val="cb2922"/>
                </a:solidFill>
                <a:latin typeface="Times New Roman"/>
              </a:rPr>
              <a:t>Views from the Sides</a:t>
            </a:r>
            <a:endParaRPr b="0" lang="en-US" sz="40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295280" y="365760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nda J. Deal, Teacher of the Gif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y Clark, Parent and Attorney for Gifted Stud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6" descr=""/>
          <p:cNvPicPr/>
          <p:nvPr/>
        </p:nvPicPr>
        <p:blipFill>
          <a:blip r:embed="rId1"/>
          <a:stretch/>
        </p:blipFill>
        <p:spPr>
          <a:xfrm>
            <a:off x="3809880" y="2743200"/>
            <a:ext cx="1270080" cy="82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pril 23,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ECB05-0308-4DFD-B0C7-056E4258B5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b2922"/>
                </a:solidFill>
                <a:latin typeface="Times New Roman"/>
              </a:rPr>
              <a:t>Due Process under Chapter 16</a:t>
            </a:r>
            <a:br>
              <a:rPr sz="4400"/>
            </a:br>
            <a:r>
              <a:rPr b="1" i="1" lang="en-US" sz="4400" spc="-1" strike="noStrike">
                <a:solidFill>
                  <a:srgbClr val="cb2922"/>
                </a:solidFill>
                <a:latin typeface="Times New Roman"/>
              </a:rPr>
              <a:t>Initiated by </a:t>
            </a:r>
            <a:r>
              <a:rPr b="1" i="1" lang="en-US" sz="4400" spc="-1" strike="noStrike">
                <a:solidFill>
                  <a:srgbClr val="339933"/>
                </a:solidFill>
                <a:latin typeface="Times New Roman"/>
              </a:rPr>
              <a:t>District</a:t>
            </a:r>
            <a:r>
              <a:rPr b="1" i="1" lang="en-US" sz="4400" spc="-1" strike="noStrike">
                <a:solidFill>
                  <a:srgbClr val="cb2922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cb2922"/>
                </a:solidFill>
                <a:latin typeface="Times New Roman"/>
              </a:rPr>
              <a:t>-16.63(b)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itial Evaluation - 16.2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-evaluation when a parent fails to respond to the district’s proposed evaluation or reevaluation - 16.2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a parent rejects the district’s proposed educational placement, other than the initial placement, the school district may request an impartial due process hear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pril 23,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6764D-7B6F-4A8E-ACD8-6FEAE1D1C5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848720" cy="175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b2922"/>
                </a:solidFill>
                <a:latin typeface="Times New Roman"/>
              </a:rPr>
              <a:t>Due Process under Chapter 16</a:t>
            </a:r>
            <a:br>
              <a:rPr sz="4400"/>
            </a:br>
            <a:r>
              <a:rPr b="1" lang="en-US" sz="4400" spc="-1" strike="noStrike">
                <a:solidFill>
                  <a:srgbClr val="cb2922"/>
                </a:solidFill>
                <a:latin typeface="Times New Roman"/>
              </a:rPr>
              <a:t>Initiated by District -16.63(b)</a:t>
            </a:r>
            <a:br>
              <a:rPr sz="4400"/>
            </a:br>
            <a:r>
              <a:rPr b="1" lang="en-US" sz="4400" spc="-1" strike="noStrike">
                <a:solidFill>
                  <a:srgbClr val="cb2922"/>
                </a:solidFill>
                <a:latin typeface="Times New Roman"/>
              </a:rPr>
              <a:t>Prohibited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62120" y="365724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the parent fails to respond or refuses to consent to the initial provision of gifted services, neither due process nor mediation may be used to obtain agreement or a ruling that the services may be provid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4" descr=""/>
          <p:cNvPicPr/>
          <p:nvPr/>
        </p:nvPicPr>
        <p:blipFill>
          <a:blip r:embed="rId1"/>
          <a:stretch/>
        </p:blipFill>
        <p:spPr>
          <a:xfrm>
            <a:off x="1066680" y="1905120"/>
            <a:ext cx="1327320" cy="14475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" descr=""/>
          <p:cNvPicPr/>
          <p:nvPr/>
        </p:nvPicPr>
        <p:blipFill>
          <a:blip r:embed="rId2"/>
          <a:stretch/>
        </p:blipFill>
        <p:spPr>
          <a:xfrm>
            <a:off x="6477120" y="1828800"/>
            <a:ext cx="139680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pril 23,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16BAB-1BB5-4C41-AA5D-5572111ABB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2922"/>
                </a:solidFill>
                <a:latin typeface="Times New Roman"/>
              </a:rPr>
              <a:t>Due Process Procedures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pute Resolution Manual - Section 50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r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odr.pattan.net/files/ODR/SEDR_Man.pd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a Due Process Clai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m on ODR webs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r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odr.pattan.net/dueprocess/RequestForms.asp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pril 23,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B9EF6-5729-4882-9C90-CDA05D7B55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2922"/>
                </a:solidFill>
                <a:latin typeface="Times New Roman"/>
              </a:rPr>
              <a:t>Due Process Hearing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en vs. Closed Hearing must be requested by parent at least 5 days before hearing - 16.63(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vening hearings may be requested by parent when the DP claim is fil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ve-calendar Day Evidence Rule - 16.63(j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ess to Student Records - 16.63(i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pril 23,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A316E-DA21-4086-9A3B-47FFEE6494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2922"/>
                </a:solidFill>
                <a:latin typeface="Times New Roman"/>
              </a:rPr>
              <a:t>Timelines for Hearing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aring should be held within 30 calendar days after initial request for hear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cision should be issued within 45 calendar days after the request for a hear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inuances/Exten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ne for the Decision deadline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ODR responsibilit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quested not infrequently, but infrequently giv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pril 23,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8AC05-2D37-4D2D-9632-83C66048E3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2922"/>
                </a:solidFill>
                <a:latin typeface="Times New Roman"/>
              </a:rPr>
              <a:t>Burden of Proof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rden of proof is the responsibility of the party bringing the ac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rden of production:  Party’s duty to introduce enough evidence on an issue to have the issue decided by the hearing officer. </a:t>
            </a:r>
            <a:r>
              <a:rPr b="1" lang="en-US" sz="1600" spc="-1" strike="noStrike">
                <a:solidFill>
                  <a:srgbClr val="339933"/>
                </a:solidFill>
                <a:latin typeface="Times New Roman"/>
              </a:rPr>
              <a:t>(decided prior to the hearing by the hearing offic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rden of persuasion:  Party’s duty to convince the hearing officer to view the facts in a way that favors that party. </a:t>
            </a:r>
            <a:r>
              <a:rPr b="1" lang="en-US" sz="1800" spc="-1" strike="noStrike">
                <a:solidFill>
                  <a:srgbClr val="339933"/>
                </a:solidFill>
                <a:latin typeface="Times New Roman"/>
              </a:rPr>
              <a:t>(this happens during the hearin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ack’s Law Dictionary, 8th Ed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pril 23,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0D1E8-DD0A-4591-AFAA-675DA106A6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2922"/>
                </a:solidFill>
                <a:latin typeface="Times New Roman"/>
              </a:rPr>
              <a:t>Representation at Hearing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trict generally represented by couns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ents may represent themselves (pro s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ents may have legal re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torney fees not reimbur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ents may be accompanied and advised by individuals with special knowledge and training with respect to students who are gif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pril 23,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81D0F-3F96-4491-8F4A-A9A658AF5E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2922"/>
                </a:solidFill>
                <a:latin typeface="Times New Roman"/>
              </a:rPr>
              <a:t>Evidence and Testimony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ight to present evidence and testimony, including expert medical, psychological or educational testimo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Times New Roman"/>
              </a:rPr>
              <a:t>(IEE = Independent Educational Evaluation. This may be done by people outside of the district. Both the district and the parents may have evaluations done at their own expense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pril 23,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C0B99-4B47-47B8-88EF-7F51ACC4E2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Types of Evidence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W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ess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mai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Picture 5" descr=""/>
          <p:cNvPicPr/>
          <p:nvPr/>
        </p:nvPicPr>
        <p:blipFill>
          <a:blip r:embed="rId1"/>
          <a:stretch/>
        </p:blipFill>
        <p:spPr>
          <a:xfrm>
            <a:off x="4138560" y="1560600"/>
            <a:ext cx="3780000" cy="338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pril 23,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3ABDA-90D9-4434-BB1D-7EBB4896C0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b2922"/>
                </a:solidFill>
                <a:latin typeface="Times New Roman"/>
              </a:rPr>
              <a:t>Evidence Notebook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ronological - Oldest to new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umbering of Exhibits - P-1 or SD-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umbering of Pages - 1 of 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Picture 5" descr=""/>
          <p:cNvPicPr/>
          <p:nvPr/>
        </p:nvPicPr>
        <p:blipFill>
          <a:blip r:embed="rId1"/>
          <a:stretch/>
        </p:blipFill>
        <p:spPr>
          <a:xfrm>
            <a:off x="4522680" y="3170160"/>
            <a:ext cx="3773520" cy="33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pril 23,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F52F1-AE79-4B45-A9DB-C7D2D9D82C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2922"/>
                </a:solidFill>
                <a:latin typeface="Times New Roman"/>
              </a:rPr>
              <a:t>Have you read the Procedural</a:t>
            </a:r>
            <a:br>
              <a:rPr sz="4400"/>
            </a:br>
            <a:r>
              <a:rPr b="0" lang="en-US" sz="4400" spc="-1" strike="noStrike">
                <a:solidFill>
                  <a:srgbClr val="cb2922"/>
                </a:solidFill>
                <a:latin typeface="Times New Roman"/>
              </a:rPr>
              <a:t>Safeguards?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th educators and parents shoul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ctuall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ead th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y spell out safeguards for parents to follow if they feel their child does not have  appropriate educational opportuniti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pril 23,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A2111-2F84-4429-9A59-FF6C583924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Times New Roman"/>
              </a:rPr>
              <a:t>The Due Process Hearing</a:t>
            </a:r>
            <a:br>
              <a:rPr sz="4400"/>
            </a:b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(just like a court hearing)</a:t>
            </a:r>
            <a:br>
              <a:rPr sz="2400"/>
            </a:b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there is also a court stenographer recording all the testimony</a:t>
            </a:r>
            <a:endParaRPr b="0" lang="en-US" sz="2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335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ening Stat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rect Examin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oss Examin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Handouts - due process for educat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Due process for par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Picture 5" descr=""/>
          <p:cNvPicPr/>
          <p:nvPr/>
        </p:nvPicPr>
        <p:blipFill>
          <a:blip r:embed="rId1"/>
          <a:stretch/>
        </p:blipFill>
        <p:spPr>
          <a:xfrm>
            <a:off x="5638680" y="2666880"/>
            <a:ext cx="1905120" cy="20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pril 23,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B4007-E998-4B5B-81FB-24C749488A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2922"/>
                </a:solidFill>
                <a:latin typeface="Times New Roman"/>
              </a:rPr>
              <a:t>Tips for Witnesses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y only to the question ask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the evidence book. The attorneys will refer to this as questions are ask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 honest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k if you don’t understand a ques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use when Objections are ma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ducator  Handout, p. 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pril 23,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AEE35-E1C1-49C5-A186-AAE4BB6435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b2922"/>
                </a:solidFill>
                <a:latin typeface="Times New Roman"/>
              </a:rPr>
              <a:t>Tips for Teachers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n’t take it personal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y focused on the student needs and abilities - not what others expect whether parents or administrat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pter 16 rules - not District Polic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pril 23,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408A0-EA24-435B-92A7-DAA71D25EA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b2922"/>
                </a:solidFill>
                <a:latin typeface="Times New Roman"/>
              </a:rPr>
              <a:t>Tips for Parents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y to stay calm. Your answers will be more coherent and logic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te facts as you know them. Stay focused on the needs of your child. Present solid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void comments that attack or demean. These comments might not add to your ca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pril 23,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C32F5-2881-4148-9ADF-84BE407C4D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Transcript of Hearing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ritten transcript provided to parents at no cos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ritten or electronic forma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pril 23,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8BFDF-D97F-4FDF-91A7-B4726B06EE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Decision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ings of Fact:  A determination by hearing officer of a fact supported by the evidence in recor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 algn="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lack’s Law Dictionary, 8th Ed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cussion of case and la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lusions of Law:  An inference on a question of law, made as a result of a factual showing, no further evidence being requir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 algn="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lack’s Law Dictionary, 8th Ed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pril 23,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24A27-36F4-4243-9F37-2FDE99BACC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Decision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st be based solely upon the substantial evidence presented during the course of the hearing.  16.63(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Picture 5" descr=""/>
          <p:cNvPicPr/>
          <p:nvPr/>
        </p:nvPicPr>
        <p:blipFill>
          <a:blip r:embed="rId1"/>
          <a:stretch/>
        </p:blipFill>
        <p:spPr>
          <a:xfrm>
            <a:off x="4114800" y="3389400"/>
            <a:ext cx="3009960" cy="22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pril 23,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B1F12-11E4-4EAE-97CE-9584BD004F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2922"/>
                </a:solidFill>
                <a:latin typeface="Times New Roman"/>
              </a:rPr>
              <a:t>Appeals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Appeals Panel - new to Chapt. 16 revi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ealed directly to Commonwealth Cou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s for Appe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titutional rights were viol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error of law was commit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necessary findings of fact were not supported by substantial ev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Picture 5" descr=""/>
          <p:cNvPicPr/>
          <p:nvPr/>
        </p:nvPicPr>
        <p:blipFill>
          <a:blip r:embed="rId1"/>
          <a:stretch/>
        </p:blipFill>
        <p:spPr>
          <a:xfrm>
            <a:off x="4191120" y="533520"/>
            <a:ext cx="2471760" cy="200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pril 23,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E5F98-1BF9-48DB-A23B-FED9EB1255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2922"/>
                </a:solidFill>
                <a:latin typeface="Times New Roman"/>
              </a:rPr>
              <a:t>Implementation of Hearing Officer Decision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on receipt of final decision from hearing officer or court, the school district must provide to PDE an assurance of its implementation of the ord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rance must be filed within 30 school days of the date of the final decis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pril 23,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76993-C824-4372-BE2A-67E9DAC8DA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b2922"/>
                </a:solidFill>
                <a:latin typeface="Times New Roman"/>
              </a:rPr>
              <a:t>Other Resources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pter 16 Regul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33cc"/>
                </a:solidFill>
                <a:uFillTx/>
                <a:latin typeface="Times New Roman"/>
                <a:hlinkClick r:id="rId1"/>
              </a:rPr>
              <a:t>http://www.pacode.com/secure/data/022/chapter16/chap16toc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st Due Process Cases on the ODR websi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33cc"/>
                </a:solidFill>
                <a:uFillTx/>
                <a:latin typeface="Times New Roman"/>
                <a:hlinkClick r:id="rId2"/>
              </a:rPr>
              <a:t>http://odr.pattan.net/dueproces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llersville University Listser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33cc"/>
                </a:solidFill>
                <a:uFillTx/>
                <a:latin typeface="Times New Roman"/>
                <a:hlinkClick r:id="rId3"/>
              </a:rPr>
              <a:t>http://listserv.millersville.edu/cgi-bin/wa?SUBED1=gifted-atmu&amp;A=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pril 23,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C32FE-5348-4BE0-AB78-E6DED064AE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69608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b2922"/>
                </a:solidFill>
                <a:latin typeface="Times New Roman"/>
              </a:rPr>
              <a:t>Mediation, Due Process</a:t>
            </a:r>
            <a:br>
              <a:rPr sz="4400"/>
            </a:br>
            <a:r>
              <a:rPr b="1" lang="en-US" sz="4400" spc="-1" strike="noStrike">
                <a:solidFill>
                  <a:srgbClr val="cb2922"/>
                </a:solidFill>
                <a:latin typeface="Times New Roman"/>
              </a:rPr>
              <a:t>or Both?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4560" y="2438280"/>
            <a:ext cx="84582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Views from the si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 bind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n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legal precedence se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ts legal preced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ss form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m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Attorney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torne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expens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torney fe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pril 23,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A4BDA-3494-446F-AB21-D079CF39F9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b2922"/>
                </a:solidFill>
                <a:latin typeface="Times New Roman"/>
              </a:rPr>
              <a:t>What is Due Process?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conduct of legal proceedings according to established rules and principles for the protection and enforcement of private rights, including notice and the right to a fair hearing before tribunal with the power to decide the ca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lack’s Law Dictionary, 8th Ed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339933"/>
                </a:solidFill>
                <a:latin typeface="Times New Roman"/>
              </a:rPr>
              <a:t>a procedure that simulates a court proceeding to help make a decision between parties that don’t agree: the district and parent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pril 23,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2742D-E61E-472F-9913-1BE0442777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2922"/>
                </a:solidFill>
                <a:latin typeface="Times New Roman"/>
              </a:rPr>
              <a:t>The </a:t>
            </a:r>
            <a:r>
              <a:rPr b="0" i="1" lang="en-US" sz="4400" spc="-1" strike="noStrike">
                <a:solidFill>
                  <a:srgbClr val="cb2922"/>
                </a:solidFill>
                <a:latin typeface="Times New Roman"/>
              </a:rPr>
              <a:t>Purpose</a:t>
            </a:r>
            <a:r>
              <a:rPr b="0" lang="en-US" sz="4400" spc="-1" strike="noStrike">
                <a:solidFill>
                  <a:srgbClr val="cb2922"/>
                </a:solidFill>
                <a:latin typeface="Times New Roman"/>
              </a:rPr>
              <a:t> of Due Process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obtain a decision on issues of disagreement by an independent, third-part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5" descr=""/>
          <p:cNvPicPr/>
          <p:nvPr/>
        </p:nvPicPr>
        <p:blipFill>
          <a:blip r:embed="rId1"/>
          <a:stretch/>
        </p:blipFill>
        <p:spPr>
          <a:xfrm>
            <a:off x="4876920" y="3809880"/>
            <a:ext cx="2039760" cy="210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2922"/>
                </a:solidFill>
                <a:latin typeface="Times New Roman"/>
              </a:rPr>
              <a:t>It is not something to fear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may be tense at 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asier if you think about the child involv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 can get along with participants when it’s over, but occasionally it may take 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times it’s a relief to have a neutral person look at issu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pril 23,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305D8-F9F3-426B-912B-00A5D4A151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pril 23,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9F486-CC68-44CF-83EE-DDE4BA8FE9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2922"/>
                </a:solidFill>
                <a:latin typeface="Times New Roman"/>
              </a:rPr>
              <a:t>Due Process under Chapter 16</a:t>
            </a:r>
            <a:br>
              <a:rPr sz="4400"/>
            </a:br>
            <a:r>
              <a:rPr b="0" i="1" lang="en-US" sz="4400" spc="-1" strike="noStrike">
                <a:solidFill>
                  <a:srgbClr val="cb2922"/>
                </a:solidFill>
                <a:latin typeface="Times New Roman"/>
              </a:rPr>
              <a:t>Initiated by</a:t>
            </a:r>
            <a:r>
              <a:rPr b="0" i="1" lang="en-US" sz="4400" spc="-1" strike="noStrike">
                <a:solidFill>
                  <a:srgbClr val="339933"/>
                </a:solidFill>
                <a:latin typeface="Times New Roman"/>
              </a:rPr>
              <a:t> Parents</a:t>
            </a:r>
            <a:r>
              <a:rPr b="0" i="1" lang="en-US" sz="4400" spc="-1" strike="noStrike">
                <a:solidFill>
                  <a:srgbClr val="cb2922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cb2922"/>
                </a:solidFill>
                <a:latin typeface="Times New Roman"/>
              </a:rPr>
              <a:t>-16.63(a)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a Student who is gifted or who is thought to be gifted relating t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entification - 16.21 </a:t>
            </a:r>
            <a:r>
              <a:rPr b="1" lang="en-US" sz="1600" spc="-1" strike="noStrike">
                <a:solidFill>
                  <a:srgbClr val="339933"/>
                </a:solidFill>
                <a:latin typeface="Times New Roman"/>
              </a:rPr>
              <a:t>(questions over identification proces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aluation - 16.2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ducational Placement - 16.4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sion of a Gifted Edu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pril 23,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44A13-F42C-4C0A-91CB-87FFA69A4F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2922"/>
                </a:solidFill>
                <a:latin typeface="Times New Roman"/>
              </a:rPr>
              <a:t>Educational Placement - 16.41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EP Team must base education placement based on the gifted student’s needs.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6.41(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lacement mus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1) Enable the provision of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appropriate specially designed instruc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based on the student’s need and abilit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en-US" sz="2000" spc="-1" strike="noStrike">
                <a:solidFill>
                  <a:srgbClr val="339933"/>
                </a:solidFill>
                <a:latin typeface="Times New Roman"/>
              </a:rPr>
              <a:t>(PLEP 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6.2(d)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2)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Ensu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hat the student is able to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benefit meaningfull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from th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rate, level and manner of instruc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en-US" sz="2000" spc="-1" strike="noStrike">
                <a:solidFill>
                  <a:srgbClr val="339933"/>
                </a:solidFill>
                <a:latin typeface="Times New Roman"/>
              </a:rPr>
              <a:t>(Goal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3) Provide opportunities to participate in acceleration or enrichment, or both, as appropriate for the student’s needs. These opportunities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must go beyond the program that the student would receive as part of a general educa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en-US" sz="2000" spc="-1" strike="noStrike">
                <a:solidFill>
                  <a:srgbClr val="339933"/>
                </a:solidFill>
                <a:latin typeface="Times New Roman"/>
              </a:rPr>
              <a:t>(Goals, objectives and SDI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6.2(d)(3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Date Placeholder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pril 23,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7D8CC-B631-4D08-BAE0-78143F1166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2922"/>
                </a:solidFill>
                <a:latin typeface="Times New Roman"/>
              </a:rPr>
              <a:t>Gifted Education Defined - 16.1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724280" y="2209680"/>
            <a:ext cx="381024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vi)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dividualized to meet the educational needs of the stude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en-US" sz="2000" spc="-1" strike="noStrike">
                <a:solidFill>
                  <a:srgbClr val="339933"/>
                </a:solidFill>
                <a:latin typeface="Times New Roman"/>
              </a:rPr>
              <a:t>(G</a:t>
            </a:r>
            <a:r>
              <a:rPr b="1" lang="en-US" sz="2000" spc="-1" strike="noStrike">
                <a:solidFill>
                  <a:srgbClr val="cb2922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339933"/>
                </a:solidFill>
                <a:latin typeface="Times New Roman"/>
              </a:rPr>
              <a:t>E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vii)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asonably calculated to yield meaningful educational benefit and student progres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viii)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ovided in conformity with a GIE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en-US" sz="2000" spc="-1" strike="noStrike">
                <a:solidFill>
                  <a:srgbClr val="339933"/>
                </a:solidFill>
                <a:latin typeface="Times New Roman"/>
              </a:rPr>
              <a:t>(the explanation of services provid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684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i) Conducted in an instructional setting. </a:t>
            </a:r>
            <a:r>
              <a:rPr b="1" lang="en-US" sz="1800" spc="-1" strike="noStrike">
                <a:solidFill>
                  <a:srgbClr val="339933"/>
                </a:solidFill>
                <a:latin typeface="Times New Roman"/>
              </a:rPr>
              <a:t>(school option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ii) Provided in an instructional or skill area. </a:t>
            </a:r>
            <a:r>
              <a:rPr b="1" lang="en-US" sz="1800" spc="-1" strike="noStrike">
                <a:solidFill>
                  <a:srgbClr val="339933"/>
                </a:solidFill>
                <a:latin typeface="Times New Roman"/>
              </a:rPr>
              <a:t>(skill or conten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iii) Provided at no cost to the parents. </a:t>
            </a:r>
            <a:r>
              <a:rPr b="0" lang="en-US" sz="1800" spc="-1" strike="noStrike">
                <a:solidFill>
                  <a:srgbClr val="339933"/>
                </a:solidFill>
                <a:latin typeface="Times New Roman"/>
              </a:rPr>
              <a:t>(</a:t>
            </a:r>
            <a:r>
              <a:rPr b="1" lang="en-US" sz="1800" spc="-1" strike="noStrike">
                <a:solidFill>
                  <a:srgbClr val="339933"/>
                </a:solidFill>
                <a:latin typeface="Times New Roman"/>
              </a:rPr>
              <a:t>except for taxes ;-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iv) Provided under the authority of a school district, directly, by referral or by contract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v) or Provided by an agency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762120" y="1371600"/>
            <a:ext cx="769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6"/>
          <p:cNvSpPr/>
          <p:nvPr/>
        </p:nvSpPr>
        <p:spPr>
          <a:xfrm>
            <a:off x="457200" y="167652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ally designed instruction to meet the needs of a gifted student that i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7"/>
          <p:cNvSpPr/>
          <p:nvPr/>
        </p:nvSpPr>
        <p:spPr>
          <a:xfrm>
            <a:off x="4267080" y="579132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Handout: optional servi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2T03:57:52Z</dcterms:created>
  <dc:creator>Jay Clark</dc:creator>
  <dc:description/>
  <dc:language>en-US</dc:language>
  <cp:lastModifiedBy> Linda Deal</cp:lastModifiedBy>
  <cp:lastPrinted>2010-04-21T19:03:06Z</cp:lastPrinted>
  <dcterms:modified xsi:type="dcterms:W3CDTF">2010-04-22T04:16:35Z</dcterms:modified>
  <cp:revision>19</cp:revision>
  <dc:subject/>
  <dc:title>Due Process</dc:title>
</cp:coreProperties>
</file>